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E119-0A7D-40E4-969E-E2D0090CD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9C48-40F3-4758-BE99-3B08ECFCE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E4A1-C44C-43DC-BF4B-AE6869E1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3172-A4B1-49BF-9B31-5C57794E8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4721-4063-46ED-8463-350B81E24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1FA8-DFDD-43DE-BBB3-58D309C38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66B6-58FD-41DF-B2F6-D01CD1A0D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64A3-5229-409F-A328-594878F84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D8E8-9C67-4CB8-941B-8AB70DBB3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E8C5-73B5-4849-B0E6-399614B73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4745-5DC6-47D6-BA55-87EA10D07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51F5-E2C6-4387-9845-E5DC58F30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3C8F-1C39-4AB6-87D4-35E1BE81B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3210-07AA-48E6-B5AF-73EBB17C1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B019-BA71-43B1-8C67-6EEA71DBA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1A42-635A-4CB3-B71B-C20BCD9EC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36DE-8F74-477B-966F-9FFF6D908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D4AE-3168-4181-92BC-C1A54E8EF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67 RCSO Report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93560" y="1295280"/>
            <a:ext cx="815688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is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867s Received on Cancelled Service Orders Report (867 RCSO) identifies instances where ERCOT has received either an 867_03F Monthly Usage Final Read or 867_04 Initial Meter Read Notification on a service order which is cancelled in ERCOT’s system. The Service Order Statuses that are considered cancelled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led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led ERCOT Operating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led CR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led Customer Ob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led Permit Not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led w/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led Un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led Rejected by T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60560" y="127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67 RCSO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A4EB-CB3B-467C-8C17-8AB2B4FABD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93560" y="1295280"/>
            <a:ext cx="815688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urpose of the repo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ing an 867_03 Final or 867_04 on a cancelled service order can indicate that these service orders may have been completed by the TDSP, which would cause an out-of-sync condition between the TDSP and ERCOT.  This report is intended to be a tool that TDSPs use to assist in resolving potential out-of-sync situations in a timely ma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rrent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ERCOT is manually creating this report for the TDSP and the effected C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ffected CR is defined as the submitter of the cancelled order upon which an 867 is rece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60560" y="127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67 RCSO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6D1F-843F-4C24-8286-EDE4CA2263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93560" y="1295280"/>
            <a:ext cx="815688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COT Proposed Cha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is proposing to only produce this report for the TDSP going for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s are not currently downloading the reports that are being publis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5/13/05 – 8/26/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 CR reports produc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8 were downloaded. This is 4.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mparison, 42 TDSP reports were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f those were downloaded.  This is 69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of report can be automated at ERCOT if CR reports are not produced, thus saving time and effort as well as sto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60560" y="127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67 RCSO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25B1-97CB-4C9A-8A89-956AC684528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93560" y="1295280"/>
            <a:ext cx="815688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w Do CRs Receive the Information on Their Ord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information is currently being provided to the CRs in their Siebel Service Order Extr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= Canc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 Data Present (Approved Flag) =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Exception Number = 30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asTrak issues submitted by the TDSP requesting a change of status require CR appr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der will stay in Cancelled status unless the TDSP or CR submits a FasTrak issue to get the order status manually 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60560" y="127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67 RCSO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72F7-6DD8-4BB6-8EB2-78688F34EDCB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Jlavas</cp:lastModifiedBy>
  <dcterms:modified xsi:type="dcterms:W3CDTF">2005-10-28T20:14:25Z</dcterms:modified>
  <cp:revision>341</cp:revision>
  <dc:subject/>
  <dc:title>Slide 1</dc:title>
</cp:coreProperties>
</file>